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E00-7929-481C-9AB1-89462984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578-01CB-4793-B79C-CC6C5C80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C3E-DA83-4429-AFDB-C40D68F0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7F3-B6CC-4F58-8F97-AE354AF0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450D-78FA-4436-BEC0-DC1BEAC8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F644-68D9-4863-B06F-5673E1C2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F6FB-3D09-4E9D-A478-2CC99456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E88D-2495-47A9-9399-16A494E0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1084-157A-46D4-9DF0-CE2FFDC4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0B6A-D1D8-43F9-956A-254ADE44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56B2-B419-4319-AD2F-8E8ECCA9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6DE3-336F-4FA9-B3E8-A3BB2878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3DDD-01F9-49B8-A9B0-7F633C12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B225-D3B8-4126-95D5-9E5BE4FA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B053-62DD-4EF2-87AF-72A33612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82C7-7C34-4131-92A6-6BA97C47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DDA6-52DC-4FE2-BCF1-82E1A64D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E7C-D93D-4184-95C1-F8D8F4A7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E0C-3CFC-4926-AC23-4DFD033A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756-4430-438B-BB6A-87C4510D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2ED-EB89-4890-9333-A29236E1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39E-51AE-4D88-A675-5BED2E30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A6B-1EDA-4D4F-910D-C5CF85B4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E98-6500-408E-94ED-98B8CF65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C3C0-A808-422F-92BF-EB09D0270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0" descr=""/>
          <p:cNvPicPr/>
          <p:nvPr/>
        </p:nvPicPr>
        <p:blipFill>
          <a:blip r:embed="rId2"/>
          <a:srcRect l="0" t="0" r="63470" b="0"/>
          <a:stretch/>
        </p:blipFill>
        <p:spPr>
          <a:xfrm>
            <a:off x="227160" y="228600"/>
            <a:ext cx="242244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2"/>
          <a:srcRect l="0" t="0" r="63466" b="0"/>
          <a:stretch/>
        </p:blipFill>
        <p:spPr>
          <a:xfrm>
            <a:off x="455760" y="455760"/>
            <a:ext cx="300492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221E-3967-4D3F-89A2-8BC5D13FA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362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&amp;E Plan for Africa RI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71600" y="41148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Exper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5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s Ab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nstruction of 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diagnosis/technolog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for setting monitoring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for evaluation (if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evaluation design (e.g., reduced sample size with better information on varia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odeling on scaling up &amp;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use, presentation, modeling (IFPRI to prov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S &amp; other analytical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s for scaling up &amp;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roles and respons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209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P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TA, IL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143000" y="4648320"/>
            <a:ext cx="68580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collects which data when for which purposes and where are they enter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 of Presentation (and the Pla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rica RISING objectives, activities, 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(and Lea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use, presentation,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y ro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 to M&amp;E vision,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E Plan integ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indicators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447920" y="4114800"/>
            <a:ext cx="5715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ole is criti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40" y="2209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agricultural systems through sustainable inten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intensification: producing more (agricultural) output from same area of land, wh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ontributions to natural capital and flow of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2209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is &amp; design of technology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farm &amp; on-station trials of new combinations of exist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and/or value chain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nd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eal-based farming systems - Sudano-Sahelian zone of West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p-livestock systems - Ethiopian high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ze-legume-livestock systems - Eastern &amp; Souther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22096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key, direct result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contributions to natural capital &amp; flow of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lue chain conduct and performance improved? / Improved market efficiency? / Improved extension effective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results possible: labor use, WUE, poverty, hun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the “what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-  to see if project i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– to inform client &amp; other stakeholders of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ID F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useful to AR for monitoring or evaluation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44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ps understand “how” &amp; “why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es &amp; attribute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ative and/or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tes (different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hol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ologies &amp;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066680" y="6019920"/>
            <a:ext cx="6629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most important questions to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questions, including at which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method for each, including demonstration of 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quantitative evaluations includes power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quired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data collection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analysis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Gary Ender</cp:lastModifiedBy>
  <cp:lastPrinted>2004-09-30T16:41:33Z</cp:lastPrinted>
  <dcterms:modified xsi:type="dcterms:W3CDTF">2012-09-05T18:54:10Z</dcterms:modified>
  <cp:revision>156</cp:revision>
  <dc:subject/>
  <dc:title>PowerPoint Presentation</dc:title>
</cp:coreProperties>
</file>